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998B-2F4F-43A6-AA82-FACC30765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D1BD-32CA-4C02-860C-B4B28E67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84BA-B2DF-4FBA-85DE-6ECB19FDA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1823-BAF1-40D5-963F-BDFAADDE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329-54D3-4AAA-9DB2-D6FBD999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17FF-5148-4111-8838-49A990B4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FD3-43E6-4470-8A99-6EBD81B2A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5666-9B6E-465C-92D8-CC57624E1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B5B4-1A24-476B-992E-095DBE50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4CFF-A487-4F26-BBF2-196045C9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5B3-1893-40AB-B71A-6BEA60FF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3486-F660-412D-B7F4-5B05965B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A952-EFAE-4310-9416-2277F58C5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E86A-E466-4F69-81C9-1201D1698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D1EC-1228-4A8E-8760-8B93E561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E9E-1F75-4942-AF5D-3C882A822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0A65-448A-4B8F-B416-8AB61903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6166-EAE9-4017-9397-E1FC61E3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E77-BBCB-4B31-A495-41F9F1E9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6BA6-79A3-4F9B-B4CA-68CC4221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1512-7A89-4C47-98D0-BF3583B65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1A98-BB6F-4CD1-8AE8-2BC06DCF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7066-68E2-4ED3-AB43-8EB6FFBC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DC7E-2116-4311-8C54-26FA84E85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0615-D500-4FDE-8819-6C7B680A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4457-66A6-426F-B738-04254C591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D537-F173-457D-B6CD-2EF473C7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123F-939F-4880-8AAE-91FD7323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E19E-0EE3-4775-97E2-35F68F38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1464-3396-4131-B657-8F3404064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C490-ECE5-4E62-AE19-A40872FA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D741-23F0-4B02-80FD-35C6B3F5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051-87DC-4170-BBE3-7F948E45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859-9CF2-4C12-9D40-2CF20937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631-F0F2-478A-A99D-50BB6E0F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68C-5B56-4783-A7D1-3F960DB1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4BA-16AE-495C-A6DB-E3BF4631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01F-4C39-43DF-9705-61EA257A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53F-7066-4726-9B61-D43E92C0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273-5258-4511-8A6E-FEB8407E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B3D-7ED9-47D7-8974-8DBE499A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C2A-5DB8-44D4-AA56-B099FA1F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62F-908B-4C67-B3A5-C33F2D3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DC0-7691-43FE-9F17-6C7965F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DB6A-55EA-422C-9F89-1C15E031B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feinitaly.com/food/img/Olive-oil-bottle-sm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odeldietplan.com/images/vitamins.gif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odeldietplan.com/images/vitamins.gif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zephyrus.co.uk/potassium.gif&amp;imgrefurl=http://www.zephyrus.co.uk/thereactivityseries.html&amp;h=589&amp;w=617&amp;sz=7&amp;hl=en&amp;start=13&amp;tbnid=Ztlb1fIIXEWQQM:&amp;tbnh=130&amp;tbnw=136&amp;prev=/images%3Fq%3Dpotassium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chem4kids.com/files/elements/art/012_symbol.gif&amp;imgrefurl=http://www.chem4kids.com/files/elements/012_shells.html&amp;h=225&amp;w=440&amp;sz=15&amp;hl=en&amp;start=4&amp;tbnid=EWST59EJorryMM:&amp;tbnh=65&amp;tbnw=127&amp;prev=/images%3Fq%3Dmagnesium%2Bin%2Bperiodic%2Btable%26gbv%3D2%26svnum%3D10%26hl%3D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chem4kids.com/files/elements/art/026_symbol.gif&amp;imgrefurl=http://www.chem4kids.com/files/elements/026_shells.html&amp;h=225&amp;w=440&amp;sz=14&amp;hl=en&amp;start=2&amp;tbnid=uf6S2i-6_kr51M:&amp;tbnh=65&amp;tbnw=127&amp;prev=/images%3Fq%3Diron%2Bin%2Bperiodic%2Btable%26gbv%3D2%26ndsp%3D20%26svnum%3D10%26hl%3Den%26sa%3D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lm.liverpool.k12.ny.us/HyperChart/periodicchart/p.c.gifs/sodium.GIF&amp;imgrefurl=http://www.lm.liverpool.k12.ny.us/HyperChart/periodicchart/sodium.html&amp;h=431&amp;w=620&amp;sz=46&amp;hl=en&amp;start=5&amp;tbnid=q3U-m0k25ZM6SM:&amp;tbnh=95&amp;tbnw=136&amp;prev=/images%3Fq%3DSodium%26gbv%3D2%26svnum%3D10%26hl%3Den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Nutrition, Digestion and 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 3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How Much Energy is in the Food We Eat?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AL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amount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is in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heat energy needed to raise the temp. of 1 mL of water by 1 degree Cels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our food labels we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ries (kilocalor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rie = 1000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elly bean = 3 Calories = 3000 calories!  (That’s a lot of energy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Label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label"/>
          <p:cNvPicPr/>
          <p:nvPr/>
        </p:nvPicPr>
        <p:blipFill>
          <a:blip r:embed="rId1"/>
          <a:stretch/>
        </p:blipFill>
        <p:spPr>
          <a:xfrm>
            <a:off x="228600" y="762120"/>
            <a:ext cx="24192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label-skimmilk"/>
          <p:cNvPicPr/>
          <p:nvPr/>
        </p:nvPicPr>
        <p:blipFill>
          <a:blip r:embed="rId2"/>
          <a:stretch/>
        </p:blipFill>
        <p:spPr>
          <a:xfrm>
            <a:off x="3124080" y="1676520"/>
            <a:ext cx="2911680" cy="471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racNutLabel"/>
          <p:cNvPicPr/>
          <p:nvPr/>
        </p:nvPicPr>
        <p:blipFill>
          <a:blip r:embed="rId3"/>
          <a:stretch/>
        </p:blipFill>
        <p:spPr>
          <a:xfrm>
            <a:off x="6629400" y="428760"/>
            <a:ext cx="22766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Getting the Glucose for Cell Respiration...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The Hum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Digestive Syste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83808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risten ITC"/>
              </a:rPr>
              <a:t>Anatomy</a:t>
            </a:r>
            <a:endParaRPr b="0" lang="en-US" sz="5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038480" y="4648320"/>
            <a:ext cx="914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DigestSys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63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6172200" y="228600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943600" y="5638680"/>
            <a:ext cx="29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nitedstreaming.com/search/assetDetail.cfm?guidAssetID=261AD126-687E-4F76-A972-A14DD33964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1.  Mouth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8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ivary glands release saliva which has </a:t>
            </a:r>
            <a:r>
              <a:rPr b="1" i="1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Amyl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ch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plex smaller sugars (malt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spends a short time in mout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ts left undig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mouth"/>
          <p:cNvPicPr/>
          <p:nvPr/>
        </p:nvPicPr>
        <p:blipFill>
          <a:blip r:embed="rId1"/>
          <a:stretch/>
        </p:blipFill>
        <p:spPr>
          <a:xfrm>
            <a:off x="6172200" y="1066680"/>
            <a:ext cx="274320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2.  Esophagus &amp; Epiglottis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ophagus connects mouth to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Peristal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wavelike contracts force food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glot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p door” prevents food “going down the wrong pip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burn”- backflow of stomach acid into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pyncter- ring of muscle that keeps stomach closed when chu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8" descr="ans7_esophagus"/>
          <p:cNvPicPr/>
          <p:nvPr/>
        </p:nvPicPr>
        <p:blipFill>
          <a:blip r:embed="rId1"/>
          <a:stretch/>
        </p:blipFill>
        <p:spPr>
          <a:xfrm>
            <a:off x="5257800" y="1219320"/>
            <a:ext cx="3157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.  Stomach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food trig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Gastric ju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l + mu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 peps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otein digestion be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rotei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ypept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rning and mi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Mixture is called Chy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stomach2"/>
          <p:cNvPicPr/>
          <p:nvPr/>
        </p:nvPicPr>
        <p:blipFill>
          <a:blip r:embed="rId1"/>
          <a:stretch/>
        </p:blipFill>
        <p:spPr>
          <a:xfrm>
            <a:off x="5105520" y="1523880"/>
            <a:ext cx="364644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4. Small Intestin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digestion is completed by the time food leaves S.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s absorbed into blood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to S.I. from stomach-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yloric sphin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ections- </a:t>
            </a: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duodenum, jejunum, il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7 meters lo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Illustration of the regions of the small intestine"/>
          <p:cNvPicPr/>
          <p:nvPr/>
        </p:nvPicPr>
        <p:blipFill>
          <a:blip r:embed="rId1"/>
          <a:stretch/>
        </p:blipFill>
        <p:spPr>
          <a:xfrm>
            <a:off x="5105520" y="1905120"/>
            <a:ext cx="40384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Secretions 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digest food the liver and gall bladder and the pancreas secrete various enzymes and fluids into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ver and Gall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l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 breaks fats into smaller drop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ver makes it, gall bladder store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Def-17"/>
          <p:cNvPicPr/>
          <p:nvPr/>
        </p:nvPicPr>
        <p:blipFill>
          <a:blip r:embed="rId1"/>
          <a:stretch/>
        </p:blipFill>
        <p:spPr>
          <a:xfrm>
            <a:off x="54100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Secretions from the Pancreas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creas adds </a:t>
            </a: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pancreatic 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fts pH from acidic to basic –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Trypsin (breaks down prote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ypeptid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Lipases (break down fa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pid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atty acid + gly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Amylase (breaks down st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lt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pancreas"/>
          <p:cNvPicPr/>
          <p:nvPr/>
        </p:nvPicPr>
        <p:blipFill>
          <a:blip r:embed="rId1"/>
          <a:stretch/>
        </p:blipFill>
        <p:spPr>
          <a:xfrm>
            <a:off x="5586480" y="2666880"/>
            <a:ext cx="3459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and Nutrition 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we need f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new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NA/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is the study of food and its effects o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Essential Nutr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Vitamins, Minerals, Fats (lipids), Proteins, Carbohyd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Secretions from th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 Small Intestine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altase, sucrase, lact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down remaining disaccharides into monosaccha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eptid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breakdown of any remaining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Absorption of nutrient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Intestine has increased surfac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lar f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youtube.com/watch?v=zX4hdOPgn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villi"/>
          <p:cNvPicPr/>
          <p:nvPr/>
        </p:nvPicPr>
        <p:blipFill>
          <a:blip r:embed="rId1"/>
          <a:stretch/>
        </p:blipFill>
        <p:spPr>
          <a:xfrm>
            <a:off x="3657600" y="2286000"/>
            <a:ext cx="43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villi"/>
          <p:cNvPicPr/>
          <p:nvPr/>
        </p:nvPicPr>
        <p:blipFill>
          <a:blip r:embed="rId2"/>
          <a:stretch/>
        </p:blipFill>
        <p:spPr>
          <a:xfrm>
            <a:off x="6858000" y="4419720"/>
            <a:ext cx="22860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5.  Large Intestin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ain function- absorption of wa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 that remains is called F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in the colon feed on waste and produce vitamin K- symbiotic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arrh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ue to illness not enough water is remov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stip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o much water is remo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arge_intestine"/>
          <p:cNvPicPr/>
          <p:nvPr/>
        </p:nvPicPr>
        <p:blipFill>
          <a:blip r:embed="rId1"/>
          <a:stretch/>
        </p:blipFill>
        <p:spPr>
          <a:xfrm>
            <a:off x="4724280" y="1681200"/>
            <a:ext cx="434340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6.  Rectum and Anu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te ex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21110400">
            <a:off x="2590560" y="3276720"/>
            <a:ext cx="4267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672000"/>
                </a:gradFill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672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8-3 Excretory System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waste leaves the body through the anus (end of col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liquid was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liquid absorbed from small and large intestine enters the blood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n brought to the kidneys where the liquid is filtered.  This is the excretory syst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metabolic wastes ar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s 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aste products from the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blood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water content of blood (blood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pic>
        <p:nvPicPr>
          <p:cNvPr id="128" name="Picture 4" descr="Kidney: Illustration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The Nephr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units of the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 million nephrons in each kidne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nephron is in the renal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of Henle is in medu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kidney_function1"/>
          <p:cNvPicPr/>
          <p:nvPr/>
        </p:nvPicPr>
        <p:blipFill>
          <a:blip r:embed="rId1"/>
          <a:stretch/>
        </p:blipFill>
        <p:spPr>
          <a:xfrm>
            <a:off x="4915080" y="2133720"/>
            <a:ext cx="4228920" cy="4228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525780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op of Hen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V="1">
            <a:off x="6477120" y="5715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iltra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, urea, glucose,salts, amino acids and some vitamins are filtered out of the bl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lled the filtr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protei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and platelets remain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352320" y="2865600"/>
            <a:ext cx="579132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glomerulus_illustration"/>
          <p:cNvPicPr/>
          <p:nvPr/>
        </p:nvPicPr>
        <p:blipFill>
          <a:blip r:embed="rId1"/>
          <a:stretch/>
        </p:blipFill>
        <p:spPr>
          <a:xfrm>
            <a:off x="3429000" y="303840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Reabsorp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amount of the filtrate is reabsorbed back into the capillaries surrounding the Loop of Hen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ever is left in loop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ine goe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collecting du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eter to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http://www.custodiol.com/images/pageimages/3_kidney.jpg"/>
          <p:cNvPicPr/>
          <p:nvPr/>
        </p:nvPicPr>
        <p:blipFill>
          <a:blip r:embed="rId1"/>
          <a:stretch/>
        </p:blipFill>
        <p:spPr>
          <a:xfrm>
            <a:off x="5029200" y="3809880"/>
            <a:ext cx="394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Kristen ITC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cell in the body needs water to complete many of the body’s processes and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loss causes problems in all the bod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water_drop"/>
          <p:cNvPicPr/>
          <p:nvPr/>
        </p:nvPicPr>
        <p:blipFill>
          <a:blip r:embed="rId1"/>
          <a:stretch/>
        </p:blipFill>
        <p:spPr>
          <a:xfrm>
            <a:off x="5029200" y="437364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Problems with the kidney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idney sto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posits of calcium, salts, or magnesium crystallize and form stones, block the u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removed, very pain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down until they are small enough to p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wo kidneys but we can survive with just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i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vailable when both kidneys f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Video of Nephron Func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youtube.com/watch?v=glu0dzK4dbU&amp;feature=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Kristen ITC"/>
              </a:rPr>
              <a:t>Fats (Lipids)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e cell membranes, produce hormones and stor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tains only single bonds (all possible hydrogens)  eg.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tains one or more double or triple bonds eg. olive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small_stick"/>
          <p:cNvPicPr/>
          <p:nvPr/>
        </p:nvPicPr>
        <p:blipFill>
          <a:blip r:embed="rId1"/>
          <a:stretch/>
        </p:blipFill>
        <p:spPr>
          <a:xfrm>
            <a:off x="533520" y="228600"/>
            <a:ext cx="187632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Olive-oil-bottle-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4572000"/>
            <a:ext cx="1581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Kristen ITC"/>
              </a:rPr>
              <a:t>Protei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body with material for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parts of muscles, skin and internal org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can naturally produce 12 of 20 amino 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ther 8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s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obtained from f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ed essential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19738"/>
          <p:cNvPicPr/>
          <p:nvPr/>
        </p:nvPicPr>
        <p:blipFill>
          <a:blip r:embed="rId1"/>
          <a:stretch/>
        </p:blipFill>
        <p:spPr>
          <a:xfrm>
            <a:off x="5715000" y="289548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Kristen ITC"/>
              </a:rPr>
              <a:t>Vitamin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olecules that are needed by the body to help perform important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essential vitam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at-solu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,D,E,K)- stored in fatty tissues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ater-solu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,B)- cannot be st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vitami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2860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vitami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28600"/>
            <a:ext cx="19810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Kristen ITC"/>
              </a:rPr>
              <a:t>Mineral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rganic nutrients that the body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Ca (bones), Fe (needed for hemoglobin), Mg (normal function of nerves and musc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t in sweat, urine and other wast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potass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029200"/>
            <a:ext cx="1295280" cy="123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012_symb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5486400"/>
            <a:ext cx="2133720" cy="109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026_symb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04920"/>
            <a:ext cx="2209680" cy="113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sodiu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228600"/>
            <a:ext cx="19051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Kristen ITC"/>
              </a:rPr>
              <a:t>Carbohydrate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source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orm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sug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t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n down into simple sugar in digestiv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ulose=</a:t>
            </a:r>
            <a:r>
              <a:rPr b="0" i="1" lang="en-US" sz="2400" spc="-1" strike="noStrike">
                <a:solidFill>
                  <a:srgbClr val="00ffff"/>
                </a:solidFill>
                <a:latin typeface="Arial"/>
              </a:rPr>
              <a:t> fib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nnot be broken down, helps process food more efficient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carbohydrates2"/>
          <p:cNvPicPr/>
          <p:nvPr/>
        </p:nvPicPr>
        <p:blipFill>
          <a:blip r:embed="rId1"/>
          <a:stretch/>
        </p:blipFill>
        <p:spPr>
          <a:xfrm>
            <a:off x="6762600" y="380880"/>
            <a:ext cx="2076480" cy="306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hristmas%2520Beaded%2520fruit%2520new%25208-05"/>
          <p:cNvPicPr/>
          <p:nvPr/>
        </p:nvPicPr>
        <p:blipFill>
          <a:blip r:embed="rId2"/>
          <a:stretch/>
        </p:blipFill>
        <p:spPr>
          <a:xfrm>
            <a:off x="914400" y="4952880"/>
            <a:ext cx="2895480" cy="1609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2003-10-31--Halloween_Candy"/>
          <p:cNvPicPr/>
          <p:nvPr/>
        </p:nvPicPr>
        <p:blipFill>
          <a:blip r:embed="rId3"/>
          <a:stretch/>
        </p:blipFill>
        <p:spPr>
          <a:xfrm>
            <a:off x="5943600" y="4572000"/>
            <a:ext cx="2828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and Energy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contains- Carbs, Fat, Protein and Nulceic Acids   Which is our main source for energy?  Back up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s are broken down by the digestive system to the simple sugar,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cells like to use glucose for cell respiration.  As a back up fatty acids and even amino acids can be used if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Preferred Customer</cp:lastModifiedBy>
  <dcterms:modified xsi:type="dcterms:W3CDTF">2009-10-22T16:01:20Z</dcterms:modified>
  <cp:revision>24</cp:revision>
  <dc:subject/>
  <dc:title>Cell resp</dc:title>
</cp:coreProperties>
</file>